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media/image9.png" ContentType="image/png"/>
  <Override PartName="/ppt/media/image7.pct" ContentType="image/x-pict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256-778D-4C2D-BA5C-37CD6950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0BF-0B18-4FBE-83A7-D179408B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D8C-18A2-4DF3-BE88-B3630D46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BFE-DCF4-4EC3-B422-9407F333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2B3-FE83-4F1F-A6ED-B21728D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DC2-725A-4FAA-AC7F-A37FF388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6D3-BA35-405E-B6B3-D7EC8C7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7D4-6C7A-42EC-84A2-A610E211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ED8-134D-45CF-9824-FF0013CF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DC9-0433-42F5-9DBC-2DB8F9A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FC4-DCD6-47EE-B826-9DFC4D5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B59-4F6B-4A8D-9CCD-B3E0A62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262-3977-4EA7-84AB-158A39E4A0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9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5480" y="838080"/>
            <a:ext cx="77688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äufigste Schulversuche zur elektrophilen Ad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Bromierung von einfachen Al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Bromierung von Tomatens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Bestimmung der Iodzahl von F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Reaktion mit KMn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457200"/>
            <a:ext cx="7696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-Hexanol aus 1-He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Reaktion erfolgt in zwei Stufen um ein möglichst einheitliches Produkt zu er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140440" cy="77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11840" y="3033720"/>
            <a:ext cx="28749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9560" y="838080"/>
            <a:ext cx="714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hese erlaub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iskussion der Regel von Markownikow,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yclohexen nicht bie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Identifizierung des Alkohols über einf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ktionen oder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Trennung von 1- und 2- Hexanol über Siedepun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Relativ kurze Reaktion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60440" y="689040"/>
            <a:ext cx="58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hese von MTB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Tau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Reak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1113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6400" y="3733920"/>
            <a:ext cx="5978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itation eines wichtigen technischen Proz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höht die Klopffestigkeit, 1% in Normalbenzin, 5% in Su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ativ kurze Reaktionszeit (20m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Aufarb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362640" cy="3238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48080" y="774720"/>
            <a:ext cx="3309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ativ komplexe Appa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9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5320" y="743040"/>
            <a:ext cx="62629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itere Versuche für SF und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Hydrierung bei RT und Normal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sp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Olivenö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Himbeerk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Zing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Addition von Wasser an 1-He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Ringschluss zu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Io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MTBE aus Methanol und Isobuten (Tau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480" y="865080"/>
            <a:ext cx="807660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ydri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 Hydrierung von Olivenöl zu „Olivenmagarin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Bekanntheit von Olivenö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infache Appa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kleine Mengen (0,5 - 1,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Reaktionszeit ca. 4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Produkt sicht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Imitation eines technischen Proz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inziger) Nachte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Preis des Katalysators Rh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3760" y="838080"/>
            <a:ext cx="6378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Synthese von Rheosmin (Himbeerke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zw. Zing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9246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533520"/>
            <a:ext cx="65516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Stu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dolkondensation: Citral + Ac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geht g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arbeiten nicht nö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2 Varianten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1 Tag bei RT        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1 Woche bei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96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58000" y="4343400"/>
            <a:ext cx="46825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Apparatur für Hydr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 gut sichtbar durch Farbänderung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 an Wasse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 reines Produkt nach Umkristallis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029200" cy="300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3880" y="685800"/>
            <a:ext cx="49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te Stufe: Hydr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609480"/>
            <a:ext cx="7467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hese von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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Io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uf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Pseudoionon aus Citral und Ac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2008080"/>
            <a:ext cx="5029200" cy="138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4114800"/>
            <a:ext cx="76154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Verwendung von LiOH 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 erhält man ein fast reines              Produ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ässt sich direkt weiter verarb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Reaktionszeit 5-6 St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399960"/>
            <a:ext cx="5553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ufe: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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onon aus Pseudoio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419720" cy="273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038480"/>
            <a:ext cx="729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Produktsteuerung über verwendet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Kontaktzeit mit der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ks &lt; 0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vorzu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ks &gt; 2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vorzu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Längere Kontaktzeit führt zu Isomerisier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Polymerisi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7400" y="609480"/>
            <a:ext cx="805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r Syn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Stufe verläuft sehr glat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izierung des Endprodukts über Geruch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ung als Ausgangsstoff für Vitamin A Synthese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als Duftstoff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 kann in der zweiten Stufe das Rohprodukt be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estillation zu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 kann mit Dinitrophenylhydrazi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Io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5:18:57Z</dcterms:created>
  <dc:creator>Hortima AG</dc:creator>
  <dc:description/>
  <dc:language>en-US</dc:language>
  <cp:lastModifiedBy>Hortima AG</cp:lastModifiedBy>
  <dcterms:modified xsi:type="dcterms:W3CDTF">2012-10-07T08:09:17Z</dcterms:modified>
  <cp:revision>7</cp:revision>
  <dc:subject/>
  <dc:title>PowerPoint-Präsentation</dc:title>
</cp:coreProperties>
</file>